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3928320"/>
            <a:ext cx="817884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7600" y="392832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2360" y="159984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87880" y="159984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392832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2360" y="392832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87880" y="392832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2BCA-35D3-40CE-AEC4-F933B57D8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0FC0-535B-4EAD-A753-8DBF0702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E00F-7ED6-4E24-8E25-FBA58854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9FC2-36D8-407D-AA7F-D9A9AA35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87DC-0560-4E28-9F90-C48E19AE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0644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7D40-301A-40FE-A53F-2ED6C2CC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B4EF-77B1-4CA4-8414-84CFED8E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47600" y="392832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45B8-2E89-408F-B779-969BF6F1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817884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B44C-8884-49C4-8705-1FE42348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6840" y="3928320"/>
            <a:ext cx="817884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5888-85CF-451D-BBE5-D3840E0C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47600" y="392832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F2AE-CC9B-48A0-B1BF-87581B02E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22360" y="159984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87880" y="159984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6840" y="392832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22360" y="392832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87880" y="392832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1147-864A-42A5-AA3C-10DA12CC6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0644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7600" y="392832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817884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buClr>
                <a:srgbClr val="008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buClr>
                <a:srgbClr val="99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buClr>
                <a:srgbClr val="ff66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914400" y="11430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2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3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DA84-E15C-4F5D-A522-D148F1953A6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rbital Diagram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1886040"/>
                <a:tab algn="l" pos="21718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otal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1886040"/>
                <a:tab algn="l" pos="21718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lement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lectrons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895480"/>
            <a:ext cx="358128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3999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3999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3999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3999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86200" y="2895480"/>
            <a:ext cx="609480" cy="5335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3848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5288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86200" y="3733920"/>
            <a:ext cx="609480" cy="53316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4495680"/>
            <a:ext cx="609480" cy="5335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76920" y="4495680"/>
            <a:ext cx="609480" cy="5335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5257800"/>
            <a:ext cx="609480" cy="5335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5257800"/>
            <a:ext cx="609480" cy="5335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rbital Diagram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nother </a:t>
            </a: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useful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periodic trend: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1268280" y="2819520"/>
            <a:ext cx="1067040" cy="2590560"/>
          </a:xfrm>
          <a:prstGeom prst="rect">
            <a:avLst/>
          </a:prstGeom>
          <a:solidFill>
            <a:srgbClr val="ffff00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35320" y="3886200"/>
            <a:ext cx="2895480" cy="15238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30800" y="2743200"/>
            <a:ext cx="2209680" cy="2362320"/>
          </a:xfrm>
          <a:prstGeom prst="rect">
            <a:avLst/>
          </a:prstGeom>
          <a:solidFill>
            <a:srgbClr val="00cc00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68280" y="2438280"/>
            <a:ext cx="457200" cy="381240"/>
          </a:xfrm>
          <a:prstGeom prst="rect">
            <a:avLst/>
          </a:prstGeom>
          <a:solidFill>
            <a:srgbClr val="ffff00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49720" y="5562720"/>
            <a:ext cx="3886200" cy="914400"/>
          </a:xfrm>
          <a:prstGeom prst="rect">
            <a:avLst/>
          </a:prstGeom>
          <a:solidFill>
            <a:srgbClr val="b2b2b2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983280" y="2362320"/>
            <a:ext cx="457200" cy="380880"/>
          </a:xfrm>
          <a:prstGeom prst="rect">
            <a:avLst/>
          </a:prstGeom>
          <a:solidFill>
            <a:srgbClr val="ffff00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6231200">
            <a:off x="1083600" y="3663360"/>
            <a:ext cx="14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51080" y="4463280"/>
            <a:ext cx="14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d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68240" y="5790600"/>
            <a:ext cx="132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f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17880" y="3580560"/>
            <a:ext cx="14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n Configura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Drawing orbital diagrams gives information not only about the orbitals that are/have been filled but also about the number of unpaired electrons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Orbital diagrams can be cumbersome!!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n Configura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 short-hand notation is commonly used in place of orbital diagrams to describe the </a:t>
            </a: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electron configuratio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of an atom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Electron configuration: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a particular arrangement of electrons in the orbitals of an atom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n Configura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 electron configuration tells the number of electrons found in each subshell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f there are three electrons in a 2p subshell, we would write: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99"/>
                </a:solidFill>
                <a:latin typeface="Comic Sans MS"/>
              </a:rPr>
              <a:t>2p</a:t>
            </a:r>
            <a:r>
              <a:rPr b="1" lang="en-US" sz="3900" spc="-1" strike="noStrike" baseline="30000">
                <a:solidFill>
                  <a:srgbClr val="000099"/>
                </a:solidFill>
                <a:latin typeface="Comic Sans MS"/>
              </a:rPr>
              <a:t>3</a:t>
            </a:r>
            <a:endParaRPr b="1" lang="en-US" sz="39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1" lang="en-US" sz="43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where the superscript (3) indicates the number of electrons in that subshell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n Configura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 orbital diagram for an O atom: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828800" y="2590920"/>
            <a:ext cx="4876920" cy="533160"/>
            <a:chOff x="1828800" y="2590920"/>
            <a:chExt cx="4876920" cy="533160"/>
          </a:xfrm>
        </p:grpSpPr>
        <p:grpSp>
          <p:nvGrpSpPr>
            <p:cNvPr id="222" name=""/>
            <p:cNvGrpSpPr/>
            <p:nvPr/>
          </p:nvGrpSpPr>
          <p:grpSpPr>
            <a:xfrm>
              <a:off x="1828800" y="2590920"/>
              <a:ext cx="4876920" cy="533160"/>
              <a:chOff x="1828800" y="2590920"/>
              <a:chExt cx="4876920" cy="533160"/>
            </a:xfrm>
          </p:grpSpPr>
          <p:sp>
            <p:nvSpPr>
              <p:cNvPr id="223" name=""/>
              <p:cNvSpPr/>
              <p:nvPr/>
            </p:nvSpPr>
            <p:spPr>
              <a:xfrm>
                <a:off x="1828800" y="2590920"/>
                <a:ext cx="609840" cy="533160"/>
              </a:xfrm>
              <a:prstGeom prst="rect">
                <a:avLst/>
              </a:prstGeom>
              <a:noFill/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819520" y="2590920"/>
                <a:ext cx="609480" cy="533160"/>
              </a:xfrm>
              <a:prstGeom prst="rect">
                <a:avLst/>
              </a:prstGeom>
              <a:noFill/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733920" y="2590920"/>
                <a:ext cx="609480" cy="533160"/>
              </a:xfrm>
              <a:prstGeom prst="rect">
                <a:avLst/>
              </a:prstGeom>
              <a:noFill/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343400" y="2590920"/>
                <a:ext cx="609840" cy="533160"/>
              </a:xfrm>
              <a:prstGeom prst="rect">
                <a:avLst/>
              </a:prstGeom>
              <a:noFill/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953240" y="2590920"/>
                <a:ext cx="609480" cy="533160"/>
              </a:xfrm>
              <a:prstGeom prst="rect">
                <a:avLst/>
              </a:prstGeom>
              <a:noFill/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096240" y="2590920"/>
                <a:ext cx="609480" cy="533160"/>
              </a:xfrm>
              <a:prstGeom prst="rect">
                <a:avLst/>
              </a:prstGeom>
              <a:noFill/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2209680" y="2666880"/>
              <a:ext cx="0" cy="38052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1981080" y="2680920"/>
              <a:ext cx="0" cy="38052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200400" y="2666880"/>
              <a:ext cx="0" cy="38052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971800" y="2680920"/>
              <a:ext cx="0" cy="38052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3886200" y="2666520"/>
              <a:ext cx="0" cy="38052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4572000" y="2666520"/>
              <a:ext cx="0" cy="38052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5105520" y="2666520"/>
              <a:ext cx="0" cy="38052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114800" y="2666880"/>
              <a:ext cx="0" cy="38052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1905120" y="3200400"/>
            <a:ext cx="4800600" cy="459720"/>
            <a:chOff x="1905120" y="3200400"/>
            <a:chExt cx="4800600" cy="459720"/>
          </a:xfrm>
        </p:grpSpPr>
        <p:sp>
          <p:nvSpPr>
            <p:cNvPr id="238" name=""/>
            <p:cNvSpPr/>
            <p:nvPr/>
          </p:nvSpPr>
          <p:spPr>
            <a:xfrm>
              <a:off x="1905120" y="3200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19520" y="3200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67440" y="3200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172200" y="3200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914400" y="3809880"/>
            <a:ext cx="79246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 electron configuration for an O atom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1s</a:t>
            </a:r>
            <a:r>
              <a:rPr b="1" lang="en-US" sz="26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2s</a:t>
            </a:r>
            <a:r>
              <a:rPr b="1" lang="en-US" sz="26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2p</a:t>
            </a:r>
            <a:r>
              <a:rPr b="1" lang="en-US" sz="2600" spc="-1" strike="noStrike" baseline="30000">
                <a:solidFill>
                  <a:srgbClr val="000099"/>
                </a:solidFill>
                <a:latin typeface="Comic Sans MS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n Configura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To determine the electron configuration of an atom (or ion) without first writing the orbital diagram: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determine the number of electrons present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add electrons to each subshell in the correct order starting with the lowest energy subshell until all electrons have been added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040040" indent="-207720">
              <a:buClr>
                <a:srgbClr val="008000"/>
              </a:buClr>
              <a:buSzPct val="8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Comic Sans MS"/>
              </a:rPr>
              <a:t>use the “diagonal” diagram to help determine relative energy (i.e. filling order)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n Configura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Example: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Write the electron configuration of a Mn atom (Z = 25)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n Configura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Example: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Write the electron configuration of an O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ion (Z = 8)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n Configura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7391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Example: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Write the electron configuration of a krypton atom (Z = 36)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25146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s</a:t>
            </a:r>
            <a:r>
              <a:rPr b="1" lang="en-US" sz="28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s</a:t>
            </a:r>
            <a:r>
              <a:rPr b="1" lang="en-US" sz="28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p</a:t>
            </a:r>
            <a:r>
              <a:rPr b="1" lang="en-US" sz="2800" spc="-1" strike="noStrike" baseline="30000">
                <a:solidFill>
                  <a:srgbClr val="000099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s</a:t>
            </a:r>
            <a:r>
              <a:rPr b="1" lang="en-US" sz="28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p</a:t>
            </a:r>
            <a:r>
              <a:rPr b="1" lang="en-US" sz="2800" spc="-1" strike="noStrike" baseline="30000">
                <a:solidFill>
                  <a:srgbClr val="000099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4s</a:t>
            </a:r>
            <a:r>
              <a:rPr b="1" lang="en-US" sz="28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d</a:t>
            </a:r>
            <a:r>
              <a:rPr b="1" lang="en-US" sz="2800" spc="-1" strike="noStrike" baseline="30000">
                <a:solidFill>
                  <a:srgbClr val="000099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4p</a:t>
            </a:r>
            <a:r>
              <a:rPr b="1" lang="en-US" sz="2800" spc="-1" strike="noStrike" baseline="30000">
                <a:solidFill>
                  <a:srgbClr val="000099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2120" y="3276720"/>
            <a:ext cx="7391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4920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This is the Kr “core” </a:t>
            </a:r>
            <a:r>
              <a:rPr b="1" lang="en-US" sz="28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[Kr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4191120"/>
            <a:ext cx="7391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45880" indent="-245880">
              <a:lnSpc>
                <a:spcPct val="100000"/>
              </a:lnSpc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 noble gas “core” can be used to write the </a:t>
            </a: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electron configuration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of an element</a:t>
            </a: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 using core nota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89600" indent="-173880">
              <a:lnSpc>
                <a:spcPct val="100000"/>
              </a:lnSpc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noble gas “core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89600" indent="-173880">
              <a:lnSpc>
                <a:spcPct val="100000"/>
              </a:lnSpc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valence electr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n Configura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/>
          <p:nvPr/>
        </p:nvSpPr>
        <p:spPr>
          <a:xfrm>
            <a:off x="838080" y="1523880"/>
            <a:ext cx="73915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91960" indent="-291960">
              <a:lnSpc>
                <a:spcPct val="100000"/>
              </a:lnSpc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To write the electron configuration using core nota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74680">
              <a:lnSpc>
                <a:spcPct val="100000"/>
              </a:lnSpc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find the noble gas that comes before the at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74680">
              <a:lnSpc>
                <a:spcPct val="100000"/>
              </a:lnSpc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determine how many additional electrons must be added beyond what the noble gas h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0920" indent="-333360">
              <a:lnSpc>
                <a:spcPct val="100000"/>
              </a:lnSpc>
              <a:buClr>
                <a:srgbClr val="008000"/>
              </a:buClr>
              <a:buSzPct val="8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Comic Sans MS"/>
              </a:rPr>
              <a:t>Atomic number of atom minus atomic number of noble 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rbital Diagram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1886040"/>
                <a:tab algn="l" pos="21718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otal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1886040"/>
                <a:tab algn="l" pos="21718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lement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lectrons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514600"/>
            <a:ext cx="3581280" cy="36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3999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3999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3999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3999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3999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2514600"/>
            <a:ext cx="609480" cy="5335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76920" y="2514600"/>
            <a:ext cx="609480" cy="5335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91320" y="2514600"/>
            <a:ext cx="609480" cy="5335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00800" y="2514600"/>
            <a:ext cx="609480" cy="5335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10280" y="2514600"/>
            <a:ext cx="609840" cy="5335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6248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52880" y="6248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6248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4114800"/>
            <a:ext cx="609480" cy="5335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76920" y="4114800"/>
            <a:ext cx="609480" cy="5335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91320" y="4114800"/>
            <a:ext cx="609480" cy="5335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00800" y="4114800"/>
            <a:ext cx="609480" cy="5335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10280" y="4114800"/>
            <a:ext cx="609840" cy="5335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6200" y="4876920"/>
            <a:ext cx="609480" cy="53316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4876920"/>
            <a:ext cx="609480" cy="53316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4876920"/>
            <a:ext cx="609480" cy="53316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4876920"/>
            <a:ext cx="609480" cy="53316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876920"/>
            <a:ext cx="609840" cy="53316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86200" y="3352680"/>
            <a:ext cx="609480" cy="5335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3352680"/>
            <a:ext cx="609480" cy="5335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91320" y="3352680"/>
            <a:ext cx="609480" cy="5335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00800" y="3352680"/>
            <a:ext cx="609480" cy="5335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10280" y="3352680"/>
            <a:ext cx="609840" cy="5335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638680"/>
            <a:ext cx="609480" cy="5335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52880" y="5638680"/>
            <a:ext cx="609840" cy="5335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67280" y="5638680"/>
            <a:ext cx="609840" cy="5335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77120" y="5638680"/>
            <a:ext cx="609480" cy="5335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86600" y="5638680"/>
            <a:ext cx="609480" cy="5335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n Configura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/>
          <p:nvPr/>
        </p:nvSpPr>
        <p:spPr>
          <a:xfrm>
            <a:off x="990720" y="1600200"/>
            <a:ext cx="74674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51000" indent="-351000">
              <a:lnSpc>
                <a:spcPct val="100000"/>
              </a:lnSpc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To write the electron configuration using core notation (cont)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74680"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determine the period number of the ele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22280" indent="-293400">
              <a:lnSpc>
                <a:spcPct val="100000"/>
              </a:lnSpc>
              <a:buClr>
                <a:srgbClr val="008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Comic Sans MS"/>
              </a:rPr>
              <a:t>this determines the value of n of the s subshell to start with when adding extra electron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74680"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add electrons starting in the “n” s subshel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n Configura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Example: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Write the core electron configuration of Sr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n Configura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Example: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Write the core electron configuration of Br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n Configuration - Anomalie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rcRect l="0" t="0" r="0" b="3444"/>
          <a:stretch/>
        </p:blipFill>
        <p:spPr>
          <a:xfrm>
            <a:off x="0" y="1981080"/>
            <a:ext cx="5334120" cy="44244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105520" y="2514600"/>
            <a:ext cx="37591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ome irregularities occur when there are enough electrons to half-fill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orbitals on a given row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n Configuration - Anomalie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"/>
          <p:cNvSpPr/>
          <p:nvPr/>
        </p:nvSpPr>
        <p:spPr>
          <a:xfrm>
            <a:off x="55627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For instance, the electron configuration for </a:t>
            </a:r>
            <a:r>
              <a:rPr b="1" lang="en-US" sz="2200" spc="-1" strike="noStrike">
                <a:solidFill>
                  <a:srgbClr val="000099"/>
                </a:solidFill>
                <a:latin typeface="Comic Sans MS"/>
              </a:rPr>
              <a:t>chromium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[Ar] 4</a:t>
            </a:r>
            <a:r>
              <a:rPr b="1" i="1" lang="en-US" sz="2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3</a:t>
            </a:r>
            <a:r>
              <a:rPr b="1" i="1" lang="en-US" sz="22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rather than the expec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[Ar] 4</a:t>
            </a:r>
            <a:r>
              <a:rPr b="1" i="1" lang="en-US" sz="2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3</a:t>
            </a:r>
            <a:r>
              <a:rPr b="1" i="1" lang="en-US" sz="22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rcRect l="0" t="0" r="0" b="3444"/>
          <a:stretch/>
        </p:blipFill>
        <p:spPr>
          <a:xfrm>
            <a:off x="0" y="2057400"/>
            <a:ext cx="525780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soelectronic Serie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When atoms ionize, they form ions with the same number of electrons as the nearest  (in atomic number) noble gas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Na  =  1s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3s</a:t>
            </a:r>
            <a:r>
              <a:rPr b="1" lang="en-US" sz="2600" spc="-1" strike="noStrike" baseline="30000">
                <a:solidFill>
                  <a:srgbClr val="000099"/>
                </a:solidFill>
                <a:latin typeface="Comic Sans MS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=  [Ne]</a:t>
            </a: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3s</a:t>
            </a:r>
            <a:r>
              <a:rPr b="1" lang="en-US" sz="2600" spc="-1" strike="noStrike" baseline="30000">
                <a:solidFill>
                  <a:srgbClr val="000099"/>
                </a:solidFill>
                <a:latin typeface="Comic Sans MS"/>
              </a:rPr>
              <a:t>1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1" lang="en-US" sz="2600" spc="-1" strike="noStrike" baseline="40000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=  1s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6         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=  [Ne]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Cl  =  1s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3s</a:t>
            </a:r>
            <a:r>
              <a:rPr b="1" lang="en-US" sz="26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3p</a:t>
            </a:r>
            <a:r>
              <a:rPr b="1" lang="en-US" sz="2600" spc="-1" strike="noStrike" baseline="30000">
                <a:solidFill>
                  <a:srgbClr val="000099"/>
                </a:solidFill>
                <a:latin typeface="Comic Sans MS"/>
              </a:rPr>
              <a:t>5</a:t>
            </a: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=  [Ne]</a:t>
            </a: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3s</a:t>
            </a:r>
            <a:r>
              <a:rPr b="1" lang="en-US" sz="26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3p</a:t>
            </a:r>
            <a:r>
              <a:rPr b="1" lang="en-US" sz="2600" spc="-1" strike="noStrike" baseline="30000">
                <a:solidFill>
                  <a:srgbClr val="000099"/>
                </a:solidFill>
                <a:latin typeface="Comic Sans MS"/>
              </a:rPr>
              <a:t>5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1" lang="en-US" sz="2600" spc="-1" strike="noStrike" baseline="40000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=  1s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3s</a:t>
            </a:r>
            <a:r>
              <a:rPr b="1" lang="en-US" sz="26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3p</a:t>
            </a:r>
            <a:r>
              <a:rPr b="1" lang="en-US" sz="2600" spc="-1" strike="noStrike" baseline="30000">
                <a:solidFill>
                  <a:srgbClr val="000099"/>
                </a:solidFill>
                <a:latin typeface="Comic Sans MS"/>
              </a:rPr>
              <a:t>6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=  [Ar]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soelectronic Serie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N (7 e-):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O (8 e-):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1s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F (9 e-):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1s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"/>
          <p:cNvSpPr/>
          <p:nvPr/>
        </p:nvSpPr>
        <p:spPr>
          <a:xfrm>
            <a:off x="1143000" y="23623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N</a:t>
            </a:r>
            <a:r>
              <a:rPr b="1" lang="en-US" sz="2800" spc="-1" strike="noStrike" baseline="30000">
                <a:solidFill>
                  <a:srgbClr val="008000"/>
                </a:solidFill>
                <a:latin typeface="Comic Sans MS"/>
              </a:rPr>
              <a:t>3-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 (10 e</a:t>
            </a:r>
            <a:r>
              <a:rPr b="1" lang="en-US" sz="2800" spc="-1" strike="noStrike" baseline="30000">
                <a:solidFill>
                  <a:srgbClr val="008000"/>
                </a:solidFill>
                <a:latin typeface="Comic Sans MS"/>
              </a:rPr>
              <a:t>-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):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1s</a:t>
            </a:r>
            <a:r>
              <a:rPr b="1" lang="en-US" sz="2800" spc="-1" strike="noStrike" baseline="30000">
                <a:solidFill>
                  <a:srgbClr val="0080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2s</a:t>
            </a:r>
            <a:r>
              <a:rPr b="1" lang="en-US" sz="2800" spc="-1" strike="noStrike" baseline="30000">
                <a:solidFill>
                  <a:srgbClr val="0080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2p</a:t>
            </a:r>
            <a:r>
              <a:rPr b="1" lang="en-US" sz="2800" spc="-1" strike="noStrike" baseline="30000">
                <a:solidFill>
                  <a:srgbClr val="008000"/>
                </a:solidFill>
                <a:latin typeface="Comic Sans MS"/>
              </a:rPr>
              <a:t>6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  =  [Ne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43000" y="3581280"/>
            <a:ext cx="7162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Comic Sans MS"/>
              </a:rPr>
              <a:t>O</a:t>
            </a:r>
            <a:r>
              <a:rPr b="1" lang="en-US" sz="2600" spc="-1" strike="noStrike" baseline="30000">
                <a:solidFill>
                  <a:srgbClr val="008000"/>
                </a:solidFill>
                <a:latin typeface="Comic Sans MS"/>
              </a:rPr>
              <a:t>2-</a:t>
            </a:r>
            <a:r>
              <a:rPr b="1" lang="en-US" sz="2600" spc="-1" strike="noStrike">
                <a:solidFill>
                  <a:srgbClr val="008000"/>
                </a:solidFill>
                <a:latin typeface="Comic Sans MS"/>
              </a:rPr>
              <a:t> (10 e</a:t>
            </a:r>
            <a:r>
              <a:rPr b="1" lang="en-US" sz="2600" spc="-1" strike="noStrike" baseline="30000">
                <a:solidFill>
                  <a:srgbClr val="008000"/>
                </a:solidFill>
                <a:latin typeface="Comic Sans MS"/>
              </a:rPr>
              <a:t>-</a:t>
            </a:r>
            <a:r>
              <a:rPr b="1" lang="en-US" sz="2600" spc="-1" strike="noStrike">
                <a:solidFill>
                  <a:srgbClr val="008000"/>
                </a:solidFill>
                <a:latin typeface="Comic Sans MS"/>
              </a:rPr>
              <a:t>):</a:t>
            </a:r>
            <a:r>
              <a:rPr b="1" lang="en-US" sz="26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8000"/>
                </a:solidFill>
                <a:latin typeface="Comic Sans MS"/>
              </a:rPr>
              <a:t> 1s</a:t>
            </a:r>
            <a:r>
              <a:rPr b="1" lang="en-US" sz="2600" spc="-1" strike="noStrike" baseline="30000">
                <a:solidFill>
                  <a:srgbClr val="008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8000"/>
                </a:solidFill>
                <a:latin typeface="Comic Sans MS"/>
              </a:rPr>
              <a:t>2s</a:t>
            </a:r>
            <a:r>
              <a:rPr b="1" lang="en-US" sz="2600" spc="-1" strike="noStrike" baseline="30000">
                <a:solidFill>
                  <a:srgbClr val="008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8000"/>
                </a:solidFill>
                <a:latin typeface="Comic Sans MS"/>
              </a:rPr>
              <a:t>2p</a:t>
            </a:r>
            <a:r>
              <a:rPr b="1" lang="en-US" sz="2600" spc="-1" strike="noStrike" baseline="30000">
                <a:solidFill>
                  <a:srgbClr val="008000"/>
                </a:solidFill>
                <a:latin typeface="Comic Sans MS"/>
              </a:rPr>
              <a:t>6</a:t>
            </a:r>
            <a:r>
              <a:rPr b="1" lang="en-US" sz="2600" spc="-1" strike="noStrike">
                <a:solidFill>
                  <a:srgbClr val="008000"/>
                </a:solidFill>
                <a:latin typeface="Comic Sans MS"/>
              </a:rPr>
              <a:t>  =  [Ne]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143000" y="4724280"/>
            <a:ext cx="7924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Comic Sans MS"/>
              </a:rPr>
              <a:t>F</a:t>
            </a:r>
            <a:r>
              <a:rPr b="1" lang="en-US" sz="2600" spc="-1" strike="noStrike" baseline="40000">
                <a:solidFill>
                  <a:srgbClr val="008000"/>
                </a:solidFill>
                <a:latin typeface="Comic Sans MS"/>
              </a:rPr>
              <a:t>-</a:t>
            </a:r>
            <a:r>
              <a:rPr b="1" lang="en-US" sz="2600" spc="-1" strike="noStrike">
                <a:solidFill>
                  <a:srgbClr val="008000"/>
                </a:solidFill>
                <a:latin typeface="Comic Sans MS"/>
              </a:rPr>
              <a:t> (10 e</a:t>
            </a:r>
            <a:r>
              <a:rPr b="1" lang="en-US" sz="2600" spc="-1" strike="noStrike" baseline="30000">
                <a:solidFill>
                  <a:srgbClr val="008000"/>
                </a:solidFill>
                <a:latin typeface="Comic Sans MS"/>
              </a:rPr>
              <a:t>-</a:t>
            </a:r>
            <a:r>
              <a:rPr b="1" lang="en-US" sz="2600" spc="-1" strike="noStrike">
                <a:solidFill>
                  <a:srgbClr val="008000"/>
                </a:solidFill>
                <a:latin typeface="Comic Sans MS"/>
              </a:rPr>
              <a:t>):</a:t>
            </a:r>
            <a:r>
              <a:rPr b="1" lang="en-US" sz="26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8000"/>
                </a:solidFill>
                <a:latin typeface="Comic Sans MS"/>
              </a:rPr>
              <a:t> 1s</a:t>
            </a:r>
            <a:r>
              <a:rPr b="1" lang="en-US" sz="2600" spc="-1" strike="noStrike" baseline="30000">
                <a:solidFill>
                  <a:srgbClr val="008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8000"/>
                </a:solidFill>
                <a:latin typeface="Comic Sans MS"/>
              </a:rPr>
              <a:t>2s</a:t>
            </a:r>
            <a:r>
              <a:rPr b="1" lang="en-US" sz="2600" spc="-1" strike="noStrike" baseline="30000">
                <a:solidFill>
                  <a:srgbClr val="008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8000"/>
                </a:solidFill>
                <a:latin typeface="Comic Sans MS"/>
              </a:rPr>
              <a:t>2p</a:t>
            </a:r>
            <a:r>
              <a:rPr b="1" lang="en-US" sz="2600" spc="-1" strike="noStrike" baseline="30000">
                <a:solidFill>
                  <a:srgbClr val="008000"/>
                </a:solidFill>
                <a:latin typeface="Comic Sans MS"/>
              </a:rPr>
              <a:t>6</a:t>
            </a:r>
            <a:r>
              <a:rPr b="1" lang="en-US" sz="2600" spc="-1" strike="noStrike">
                <a:solidFill>
                  <a:srgbClr val="008000"/>
                </a:solidFill>
                <a:latin typeface="Comic Sans MS"/>
              </a:rPr>
              <a:t>  =  [Ne]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soelectronic Serie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Na (11 e-):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1s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Mg (12 e-):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1s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l (13 e-):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1s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"/>
          <p:cNvSpPr/>
          <p:nvPr/>
        </p:nvSpPr>
        <p:spPr>
          <a:xfrm>
            <a:off x="858240" y="2438280"/>
            <a:ext cx="64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Na</a:t>
            </a:r>
            <a:r>
              <a:rPr b="1" lang="en-US" sz="2800" spc="-1" strike="noStrike" baseline="30000">
                <a:solidFill>
                  <a:srgbClr val="008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(10 e</a:t>
            </a:r>
            <a:r>
              <a:rPr b="1" lang="en-US" sz="2800" spc="-1" strike="noStrike" baseline="30000">
                <a:solidFill>
                  <a:srgbClr val="008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):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1s</a:t>
            </a:r>
            <a:r>
              <a:rPr b="1" lang="en-US" sz="2800" spc="-1" strike="noStrike" baseline="30000">
                <a:solidFill>
                  <a:srgbClr val="008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2s</a:t>
            </a:r>
            <a:r>
              <a:rPr b="1" lang="en-US" sz="2800" spc="-1" strike="noStrike" baseline="30000">
                <a:solidFill>
                  <a:srgbClr val="008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2p</a:t>
            </a:r>
            <a:r>
              <a:rPr b="1" lang="en-US" sz="2800" spc="-1" strike="noStrike" baseline="30000">
                <a:solidFill>
                  <a:srgbClr val="008000"/>
                </a:solidFill>
                <a:latin typeface="Arial"/>
              </a:rPr>
              <a:t>6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= [Ne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66160" y="3733920"/>
            <a:ext cx="64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Mg</a:t>
            </a:r>
            <a:r>
              <a:rPr b="1" lang="en-US" sz="2800" spc="-1" strike="noStrike" baseline="30000">
                <a:solidFill>
                  <a:srgbClr val="008000"/>
                </a:solidFill>
                <a:latin typeface="Arial"/>
              </a:rPr>
              <a:t>2+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(10 e</a:t>
            </a:r>
            <a:r>
              <a:rPr b="1" lang="en-US" sz="2800" spc="-1" strike="noStrike" baseline="30000">
                <a:solidFill>
                  <a:srgbClr val="008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):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1s</a:t>
            </a:r>
            <a:r>
              <a:rPr b="1" lang="en-US" sz="2800" spc="-1" strike="noStrike" baseline="30000">
                <a:solidFill>
                  <a:srgbClr val="008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2s</a:t>
            </a:r>
            <a:r>
              <a:rPr b="1" lang="en-US" sz="2800" spc="-1" strike="noStrike" baseline="30000">
                <a:solidFill>
                  <a:srgbClr val="008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2p</a:t>
            </a:r>
            <a:r>
              <a:rPr b="1" lang="en-US" sz="2800" spc="-1" strike="noStrike" baseline="30000">
                <a:solidFill>
                  <a:srgbClr val="008000"/>
                </a:solidFill>
                <a:latin typeface="Arial"/>
              </a:rPr>
              <a:t>6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= [Ne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90720" y="4952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Al</a:t>
            </a:r>
            <a:r>
              <a:rPr b="1" lang="en-US" sz="2800" spc="-1" strike="noStrike" baseline="30000">
                <a:solidFill>
                  <a:srgbClr val="008000"/>
                </a:solidFill>
                <a:latin typeface="Arial"/>
              </a:rPr>
              <a:t>3+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(10 e</a:t>
            </a:r>
            <a:r>
              <a:rPr b="1" lang="en-US" sz="2800" spc="-1" strike="noStrike" baseline="30000">
                <a:solidFill>
                  <a:srgbClr val="008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):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1s</a:t>
            </a:r>
            <a:r>
              <a:rPr b="1" lang="en-US" sz="2800" spc="-1" strike="noStrike" baseline="30000">
                <a:solidFill>
                  <a:srgbClr val="008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2s</a:t>
            </a:r>
            <a:r>
              <a:rPr b="1" lang="en-US" sz="2800" spc="-1" strike="noStrike" baseline="30000">
                <a:solidFill>
                  <a:srgbClr val="008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2p</a:t>
            </a:r>
            <a:r>
              <a:rPr b="1" lang="en-US" sz="2800" spc="-1" strike="noStrike" baseline="30000">
                <a:solidFill>
                  <a:srgbClr val="008000"/>
                </a:solidFill>
                <a:latin typeface="Arial"/>
              </a:rPr>
              <a:t>6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= [Ne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80880" y="3836880"/>
            <a:ext cx="46044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41320" y="3836880"/>
            <a:ext cx="46368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05000" y="3836880"/>
            <a:ext cx="43632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12960" y="3836880"/>
            <a:ext cx="41256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25520" y="3836880"/>
            <a:ext cx="46368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689200" y="3836880"/>
            <a:ext cx="46044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149640" y="3836880"/>
            <a:ext cx="46044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10080" y="3836880"/>
            <a:ext cx="46332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073400" y="3836880"/>
            <a:ext cx="46044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33840" y="3836880"/>
            <a:ext cx="46044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994280" y="3836880"/>
            <a:ext cx="46368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57960" y="3836880"/>
            <a:ext cx="46008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18040" y="3836880"/>
            <a:ext cx="46044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378480" y="3836880"/>
            <a:ext cx="46368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42160" y="3836880"/>
            <a:ext cx="46044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02600" y="3836880"/>
            <a:ext cx="46044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763040" y="3836880"/>
            <a:ext cx="46332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0880" y="3174840"/>
            <a:ext cx="46044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41320" y="3174840"/>
            <a:ext cx="46368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305000" y="3174840"/>
            <a:ext cx="46044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765440" y="3174840"/>
            <a:ext cx="46008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25520" y="3174840"/>
            <a:ext cx="46224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687760" y="3174840"/>
            <a:ext cx="46188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149640" y="3174840"/>
            <a:ext cx="46044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610080" y="3174840"/>
            <a:ext cx="46188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71960" y="3174840"/>
            <a:ext cx="46188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33840" y="3174840"/>
            <a:ext cx="46044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94280" y="3174840"/>
            <a:ext cx="46188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56160" y="3174840"/>
            <a:ext cx="46044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916600" y="3174840"/>
            <a:ext cx="46188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378480" y="3174840"/>
            <a:ext cx="46188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40360" y="3173400"/>
            <a:ext cx="46224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302600" y="3173400"/>
            <a:ext cx="46188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764480" y="3173400"/>
            <a:ext cx="46044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4498920"/>
            <a:ext cx="46044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41320" y="4498920"/>
            <a:ext cx="46368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311120" y="4498920"/>
            <a:ext cx="43020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12960" y="4498920"/>
            <a:ext cx="43020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225520" y="4498920"/>
            <a:ext cx="46368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689200" y="4498920"/>
            <a:ext cx="46044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49640" y="4498920"/>
            <a:ext cx="46044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10080" y="4498920"/>
            <a:ext cx="46332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073400" y="4498920"/>
            <a:ext cx="46044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33840" y="4498920"/>
            <a:ext cx="46044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994280" y="4498920"/>
            <a:ext cx="46368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457960" y="4498920"/>
            <a:ext cx="46008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918040" y="1185840"/>
            <a:ext cx="46044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378480" y="1185840"/>
            <a:ext cx="46368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842160" y="1185840"/>
            <a:ext cx="460440" cy="663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302600" y="1185840"/>
            <a:ext cx="460440" cy="663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772400" y="1219320"/>
            <a:ext cx="463680" cy="663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918040" y="1849320"/>
            <a:ext cx="460440" cy="662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378480" y="1849320"/>
            <a:ext cx="46368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42160" y="1849320"/>
            <a:ext cx="46044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302600" y="1849320"/>
            <a:ext cx="46044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63040" y="1849320"/>
            <a:ext cx="46332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0880" y="1185840"/>
            <a:ext cx="46224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43120" y="1185840"/>
            <a:ext cx="46008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880" y="1847880"/>
            <a:ext cx="462240" cy="663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43120" y="1847880"/>
            <a:ext cx="460080" cy="663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0880" y="457200"/>
            <a:ext cx="46368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25880" y="5303880"/>
            <a:ext cx="46044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586320" y="5303880"/>
            <a:ext cx="46008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46400" y="5303880"/>
            <a:ext cx="46368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10080" y="5303880"/>
            <a:ext cx="46044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970520" y="5303880"/>
            <a:ext cx="46188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432400" y="5303880"/>
            <a:ext cx="46188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894280" y="5303880"/>
            <a:ext cx="46044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354720" y="5303880"/>
            <a:ext cx="46188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816600" y="5303880"/>
            <a:ext cx="46224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78840" y="5303880"/>
            <a:ext cx="46008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01760" y="5303880"/>
            <a:ext cx="46044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662200" y="5303880"/>
            <a:ext cx="46368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01760" y="5967360"/>
            <a:ext cx="46044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62200" y="5967360"/>
            <a:ext cx="46368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25880" y="5967360"/>
            <a:ext cx="46044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586320" y="5967360"/>
            <a:ext cx="46008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46400" y="5967360"/>
            <a:ext cx="46368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510080" y="5967360"/>
            <a:ext cx="46044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970520" y="5967360"/>
            <a:ext cx="46188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432400" y="5967360"/>
            <a:ext cx="46188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894280" y="5967360"/>
            <a:ext cx="46044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354720" y="5967360"/>
            <a:ext cx="46188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16600" y="5967360"/>
            <a:ext cx="46224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278840" y="5967360"/>
            <a:ext cx="46008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738920" y="5303880"/>
            <a:ext cx="46224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201160" y="5303880"/>
            <a:ext cx="46188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738920" y="5967360"/>
            <a:ext cx="46224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201160" y="5967360"/>
            <a:ext cx="46188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9040" y="6094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19040" y="129528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38080" y="1295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0880" y="19051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38080" y="19051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352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80880" y="3962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0880" y="4572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38080" y="4572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38080" y="3962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914400" y="3352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810560" y="3352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353360" y="335268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858000" y="3352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400800" y="3352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981760" y="335268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24560" y="335268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29200" y="3352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72000" y="3352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114800" y="3352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619440" y="335268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200400" y="3352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666880" y="3352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247840" y="335268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752480" y="3352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333440" y="33526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33440" y="39625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333440" y="457200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752480" y="4572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752480" y="39625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47840" y="39625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705040" y="39625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200400" y="3962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619440" y="39625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114800" y="3962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572000" y="3962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29200" y="3962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524560" y="39625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981760" y="39625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00800" y="3962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0" y="3962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353360" y="396252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810560" y="39625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47840" y="457200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705040" y="457200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4572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619440" y="457200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114800" y="4572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267760" y="541008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772400" y="541008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238880" y="54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858000" y="54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400800" y="54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981760" y="54100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524560" y="54100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29200" y="54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572000" y="5410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038480" y="5410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81280" y="54100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00400" y="5410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705040" y="541008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247840" y="541008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47840" y="608328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705040" y="608328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00400" y="6083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619440" y="608328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114800" y="6083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495680" y="6083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52880" y="6083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410080" y="608328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867280" y="608328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400800" y="6083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781680" y="6084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238880" y="6083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810560" y="6083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267760" y="60832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810560" y="1295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810560" y="190512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353360" y="1905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858000" y="1905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400800" y="1905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981760" y="190512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981760" y="1295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400800" y="1295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58000" y="1295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353360" y="1295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0880" y="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914400" y="685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295280" y="20667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752480" y="20667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209680" y="20667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666880" y="20667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124080" y="2057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581280" y="2057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057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572000" y="2057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952880" y="2057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410080" y="2057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867280" y="7621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400800" y="762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762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315200" y="762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772400" y="762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26360" y="3836880"/>
            <a:ext cx="46044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224920" y="3173400"/>
            <a:ext cx="46188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226360" y="1185840"/>
            <a:ext cx="460440" cy="663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226360" y="1849320"/>
            <a:ext cx="46044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23120" y="523800"/>
            <a:ext cx="46368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840360" y="2511360"/>
            <a:ext cx="46224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302600" y="2511360"/>
            <a:ext cx="62208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764480" y="2511360"/>
            <a:ext cx="46044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05000" y="2511360"/>
            <a:ext cx="46044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765440" y="2511360"/>
            <a:ext cx="46008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25520" y="2511360"/>
            <a:ext cx="46224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687760" y="2511360"/>
            <a:ext cx="46188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149640" y="2511360"/>
            <a:ext cx="46044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610080" y="2511360"/>
            <a:ext cx="46188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071960" y="2511360"/>
            <a:ext cx="46188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533840" y="2511360"/>
            <a:ext cx="46044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994280" y="2511360"/>
            <a:ext cx="46188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456160" y="2511360"/>
            <a:ext cx="46044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0880" y="2511360"/>
            <a:ext cx="46044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841320" y="2511360"/>
            <a:ext cx="46368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16600" y="2511360"/>
            <a:ext cx="46188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378480" y="2511360"/>
            <a:ext cx="46188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38080" y="2629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19040" y="26290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333440" y="262908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752480" y="2629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247840" y="26290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705040" y="262908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124080" y="2666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619440" y="262908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114800" y="2629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572000" y="2629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029200" y="2629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486400" y="2629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981760" y="262908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400800" y="2629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0" y="2629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353360" y="26290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810560" y="262908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224920" y="2511360"/>
            <a:ext cx="46188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267760" y="26290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267760" y="335268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8267760" y="39625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8267760" y="198108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267760" y="129528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8267760" y="68580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229600" y="152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752480" y="51814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752480" y="6172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52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600200" y="0"/>
            <a:ext cx="411480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Ions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 the highlighted elements ar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soelectronic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soelectronic Series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Isoelectronic: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having the same number of electrons 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O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F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Ne, Na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Mg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and Al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3+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form an </a:t>
            </a: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isoelectronic series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A group of atoms or ions that all contain the same number of electrons 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rbital Diagram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2743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For Ne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(10 e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438280" y="2743200"/>
            <a:ext cx="4876920" cy="533520"/>
            <a:chOff x="2438280" y="2743200"/>
            <a:chExt cx="4876920" cy="533520"/>
          </a:xfrm>
        </p:grpSpPr>
        <p:sp>
          <p:nvSpPr>
            <p:cNvPr id="125" name=""/>
            <p:cNvSpPr/>
            <p:nvPr/>
          </p:nvSpPr>
          <p:spPr>
            <a:xfrm>
              <a:off x="2438280" y="2743200"/>
              <a:ext cx="609840" cy="533520"/>
            </a:xfrm>
            <a:prstGeom prst="rect">
              <a:avLst/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29000" y="2743200"/>
              <a:ext cx="609480" cy="533520"/>
            </a:xfrm>
            <a:prstGeom prst="rect">
              <a:avLst/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43400" y="2743200"/>
              <a:ext cx="609480" cy="533520"/>
            </a:xfrm>
            <a:prstGeom prst="rect">
              <a:avLst/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952880" y="2743200"/>
              <a:ext cx="609840" cy="533520"/>
            </a:xfrm>
            <a:prstGeom prst="rect">
              <a:avLst/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62720" y="2743200"/>
              <a:ext cx="609480" cy="533520"/>
            </a:xfrm>
            <a:prstGeom prst="rect">
              <a:avLst/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05720" y="2743200"/>
              <a:ext cx="609480" cy="533520"/>
            </a:xfrm>
            <a:prstGeom prst="rect">
              <a:avLst/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590920" y="2819520"/>
            <a:ext cx="3352680" cy="394920"/>
            <a:chOff x="2590920" y="2819520"/>
            <a:chExt cx="3352680" cy="394920"/>
          </a:xfrm>
        </p:grpSpPr>
        <p:grpSp>
          <p:nvGrpSpPr>
            <p:cNvPr id="132" name=""/>
            <p:cNvGrpSpPr/>
            <p:nvPr/>
          </p:nvGrpSpPr>
          <p:grpSpPr>
            <a:xfrm>
              <a:off x="2590920" y="2819520"/>
              <a:ext cx="228600" cy="394920"/>
              <a:chOff x="2590920" y="2819520"/>
              <a:chExt cx="228600" cy="394920"/>
            </a:xfrm>
          </p:grpSpPr>
          <p:sp>
            <p:nvSpPr>
              <p:cNvPr id="133" name=""/>
              <p:cNvSpPr/>
              <p:nvPr/>
            </p:nvSpPr>
            <p:spPr>
              <a:xfrm>
                <a:off x="2819520" y="2819520"/>
                <a:ext cx="0" cy="38088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2590920" y="2833200"/>
                <a:ext cx="0" cy="38124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3581280" y="2819520"/>
              <a:ext cx="228600" cy="394920"/>
              <a:chOff x="3581280" y="2819520"/>
              <a:chExt cx="228600" cy="394920"/>
            </a:xfrm>
          </p:grpSpPr>
          <p:sp>
            <p:nvSpPr>
              <p:cNvPr id="136" name=""/>
              <p:cNvSpPr/>
              <p:nvPr/>
            </p:nvSpPr>
            <p:spPr>
              <a:xfrm>
                <a:off x="3809880" y="2819520"/>
                <a:ext cx="0" cy="38088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V="1">
                <a:off x="3581280" y="2833200"/>
                <a:ext cx="0" cy="38124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4495680" y="2819520"/>
              <a:ext cx="228600" cy="394920"/>
              <a:chOff x="4495680" y="2819520"/>
              <a:chExt cx="228600" cy="394920"/>
            </a:xfrm>
          </p:grpSpPr>
          <p:sp>
            <p:nvSpPr>
              <p:cNvPr id="139" name=""/>
              <p:cNvSpPr/>
              <p:nvPr/>
            </p:nvSpPr>
            <p:spPr>
              <a:xfrm>
                <a:off x="4724280" y="2819520"/>
                <a:ext cx="0" cy="38088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4495680" y="2833200"/>
                <a:ext cx="0" cy="38124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5105520" y="2819520"/>
              <a:ext cx="228600" cy="394920"/>
              <a:chOff x="5105520" y="2819520"/>
              <a:chExt cx="228600" cy="394920"/>
            </a:xfrm>
          </p:grpSpPr>
          <p:sp>
            <p:nvSpPr>
              <p:cNvPr id="142" name=""/>
              <p:cNvSpPr/>
              <p:nvPr/>
            </p:nvSpPr>
            <p:spPr>
              <a:xfrm>
                <a:off x="5334120" y="2819520"/>
                <a:ext cx="0" cy="38088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5105520" y="2833200"/>
                <a:ext cx="0" cy="38124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5715000" y="2819520"/>
              <a:ext cx="228600" cy="394920"/>
              <a:chOff x="5715000" y="2819520"/>
              <a:chExt cx="228600" cy="394920"/>
            </a:xfrm>
          </p:grpSpPr>
          <p:sp>
            <p:nvSpPr>
              <p:cNvPr id="145" name=""/>
              <p:cNvSpPr/>
              <p:nvPr/>
            </p:nvSpPr>
            <p:spPr>
              <a:xfrm>
                <a:off x="5943600" y="2819520"/>
                <a:ext cx="0" cy="38088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5715000" y="2833200"/>
                <a:ext cx="0" cy="38124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4495680" y="2819520"/>
              <a:ext cx="228600" cy="394920"/>
              <a:chOff x="4495680" y="2819520"/>
              <a:chExt cx="228600" cy="394920"/>
            </a:xfrm>
          </p:grpSpPr>
          <p:sp>
            <p:nvSpPr>
              <p:cNvPr id="148" name=""/>
              <p:cNvSpPr/>
              <p:nvPr/>
            </p:nvSpPr>
            <p:spPr>
              <a:xfrm>
                <a:off x="4724280" y="2819520"/>
                <a:ext cx="0" cy="38088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V="1">
                <a:off x="4495680" y="2833200"/>
                <a:ext cx="0" cy="38124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" name=""/>
          <p:cNvGrpSpPr/>
          <p:nvPr/>
        </p:nvGrpSpPr>
        <p:grpSpPr>
          <a:xfrm>
            <a:off x="2514600" y="2209680"/>
            <a:ext cx="4800600" cy="459720"/>
            <a:chOff x="2514600" y="2209680"/>
            <a:chExt cx="4800600" cy="459720"/>
          </a:xfrm>
        </p:grpSpPr>
        <p:sp>
          <p:nvSpPr>
            <p:cNvPr id="151" name=""/>
            <p:cNvSpPr/>
            <p:nvPr/>
          </p:nvSpPr>
          <p:spPr>
            <a:xfrm>
              <a:off x="2514600" y="22096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2096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76920" y="2209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81680" y="22096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838080" y="3657600"/>
            <a:ext cx="80773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Filling of the 2p subshell is complete at ne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The outermost shell (n = 2) contains an octet (8) of electrons.</a:t>
            </a: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soelectronic Serie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xamples of isoelectronic series: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N</a:t>
            </a:r>
            <a:r>
              <a:rPr b="1" lang="en-US" sz="2600" spc="-1" strike="noStrike" baseline="30000">
                <a:solidFill>
                  <a:srgbClr val="000099"/>
                </a:solidFill>
                <a:latin typeface="Comic Sans MS"/>
              </a:rPr>
              <a:t>3-</a:t>
            </a: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, O</a:t>
            </a:r>
            <a:r>
              <a:rPr b="1" lang="en-US" sz="2600" spc="-1" strike="noStrike" baseline="30000">
                <a:solidFill>
                  <a:srgbClr val="000099"/>
                </a:solidFill>
                <a:latin typeface="Comic Sans MS"/>
              </a:rPr>
              <a:t>2-</a:t>
            </a: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, F</a:t>
            </a:r>
            <a:r>
              <a:rPr b="1" lang="en-US" sz="2600" spc="-1" strike="noStrike" baseline="30000">
                <a:solidFill>
                  <a:srgbClr val="000099"/>
                </a:solidFill>
                <a:latin typeface="Comic Sans MS"/>
              </a:rPr>
              <a:t>-</a:t>
            </a: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, Ne, Na</a:t>
            </a:r>
            <a:r>
              <a:rPr b="1" lang="en-US" sz="2600" spc="-1" strike="noStrike" baseline="30000">
                <a:solidFill>
                  <a:srgbClr val="000099"/>
                </a:solidFill>
                <a:latin typeface="Comic Sans MS"/>
              </a:rPr>
              <a:t>+</a:t>
            </a: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, Mg</a:t>
            </a:r>
            <a:r>
              <a:rPr b="1" lang="en-US" sz="2600" spc="-1" strike="noStrike" baseline="30000">
                <a:solidFill>
                  <a:srgbClr val="000099"/>
                </a:solidFill>
                <a:latin typeface="Comic Sans MS"/>
              </a:rPr>
              <a:t>2+</a:t>
            </a: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, Al</a:t>
            </a:r>
            <a:r>
              <a:rPr b="1" lang="en-US" sz="2600" spc="-1" strike="noStrike" baseline="30000">
                <a:solidFill>
                  <a:srgbClr val="000099"/>
                </a:solidFill>
                <a:latin typeface="Comic Sans MS"/>
              </a:rPr>
              <a:t>3+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Se</a:t>
            </a:r>
            <a:r>
              <a:rPr b="1" lang="en-US" sz="2600" spc="-1" strike="noStrike" baseline="30000">
                <a:solidFill>
                  <a:srgbClr val="000099"/>
                </a:solidFill>
                <a:latin typeface="Comic Sans MS"/>
              </a:rPr>
              <a:t>2-</a:t>
            </a: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, Br</a:t>
            </a:r>
            <a:r>
              <a:rPr b="1" lang="en-US" sz="2600" spc="-1" strike="noStrike" baseline="30000">
                <a:solidFill>
                  <a:srgbClr val="000099"/>
                </a:solidFill>
                <a:latin typeface="Comic Sans MS"/>
              </a:rPr>
              <a:t>-</a:t>
            </a: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, Kr, Rb</a:t>
            </a:r>
            <a:r>
              <a:rPr b="1" lang="en-US" sz="2600" spc="-1" strike="noStrike" baseline="30000">
                <a:solidFill>
                  <a:srgbClr val="000099"/>
                </a:solidFill>
                <a:latin typeface="Comic Sans MS"/>
              </a:rPr>
              <a:t>+</a:t>
            </a: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, Sr</a:t>
            </a:r>
            <a:r>
              <a:rPr b="1" lang="en-US" sz="2600" spc="-1" strike="noStrike" baseline="30000">
                <a:solidFill>
                  <a:srgbClr val="000099"/>
                </a:solidFill>
                <a:latin typeface="Comic Sans MS"/>
              </a:rPr>
              <a:t>2+</a:t>
            </a: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, Y</a:t>
            </a:r>
            <a:r>
              <a:rPr b="1" lang="en-US" sz="2600" spc="-1" strike="noStrike" baseline="30000">
                <a:solidFill>
                  <a:srgbClr val="000099"/>
                </a:solidFill>
                <a:latin typeface="Comic Sans MS"/>
              </a:rPr>
              <a:t>3+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Cr, Fe</a:t>
            </a:r>
            <a:r>
              <a:rPr b="1" lang="en-US" sz="2600" spc="-1" strike="noStrike" baseline="30000">
                <a:solidFill>
                  <a:srgbClr val="000099"/>
                </a:solidFill>
                <a:latin typeface="Comic Sans MS"/>
              </a:rPr>
              <a:t>2+</a:t>
            </a: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, and Co</a:t>
            </a:r>
            <a:r>
              <a:rPr b="1" lang="en-US" sz="2600" spc="-1" strike="noStrike" baseline="30000">
                <a:solidFill>
                  <a:srgbClr val="000099"/>
                </a:solidFill>
                <a:latin typeface="Comic Sans MS"/>
              </a:rPr>
              <a:t>3+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eriodic Properties of Element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Chemical and physical properties of the elements vary with their position in the periodic table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Atomic size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Size of Atom vs. Ion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Size of Ions in Isoelectronic series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Ionization energy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Electron affinity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Metallic character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Periodic Properties--Atomic Size</a:t>
            </a: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7315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 relative size (radius) of an atom of an element can be predicted by its position in the periodic table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Trends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Within a group (column), the atomic radius tends to increase from top to bottom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Within a period (row), the atomic radius tends to decrease as we move from left to right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Periodic Properties--Atomic Size</a:t>
            </a: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743200" y="6019920"/>
            <a:ext cx="4495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Lower “lefter” larger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"/>
          <p:cNvSpPr/>
          <p:nvPr/>
        </p:nvSpPr>
        <p:spPr>
          <a:xfrm>
            <a:off x="1219320" y="4648320"/>
            <a:ext cx="4647960" cy="1143000"/>
          </a:xfrm>
          <a:prstGeom prst="leftArrow">
            <a:avLst>
              <a:gd name="adj1" fmla="val 50000"/>
              <a:gd name="adj2" fmla="val 101661"/>
            </a:avLst>
          </a:prstGeom>
          <a:solidFill>
            <a:srgbClr val="ff0000"/>
          </a:solidFill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6095880" y="1828800"/>
            <a:ext cx="1295640" cy="3581280"/>
          </a:xfrm>
          <a:prstGeom prst="upArrow">
            <a:avLst>
              <a:gd name="adj1" fmla="val 50000"/>
              <a:gd name="adj2" fmla="val 69103"/>
            </a:avLst>
          </a:prstGeom>
          <a:solidFill>
            <a:srgbClr val="ff0000"/>
          </a:solidFill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95280" y="1752480"/>
            <a:ext cx="4572000" cy="2590920"/>
          </a:xfrm>
          <a:prstGeom prst="rect">
            <a:avLst/>
          </a:prstGeom>
          <a:solidFill>
            <a:srgbClr val="ffff00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981080" y="27432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riodic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rot="16200000">
            <a:off x="5257440" y="31237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creasing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590920" y="49528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creasing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Periodic Properties--Atomic Size</a:t>
            </a: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Example: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Which element would have the larger atomic radius, Ar or Br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eriodic Properties – Atom vs. Ion Siz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670572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Trends to know: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Cations (+) are smaller than their parent atoms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buClr>
                <a:srgbClr val="008000"/>
              </a:buClr>
              <a:buSzPct val="8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Comic Sans MS"/>
              </a:rPr>
              <a:t>Electrons are removed from the outer shell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Anions (-) are larger than their parent atoms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buClr>
                <a:srgbClr val="008000"/>
              </a:buClr>
              <a:buSzPct val="8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Comic Sans MS"/>
              </a:rPr>
              <a:t>Electron-electron repulsion causes the electrons to spread out more in space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rcRect l="0" t="0" r="80602" b="2976"/>
          <a:stretch/>
        </p:blipFill>
        <p:spPr>
          <a:xfrm>
            <a:off x="228600" y="1752480"/>
            <a:ext cx="990720" cy="465300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2"/>
          <a:srcRect l="79107" t="0" r="0" b="2976"/>
          <a:stretch/>
        </p:blipFill>
        <p:spPr>
          <a:xfrm>
            <a:off x="7772400" y="1828800"/>
            <a:ext cx="106668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eriodic Properties – Ion Siz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Trends to know: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For ions in the same group (same charge), size increases from top to bottom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buClr>
                <a:srgbClr val="008000"/>
              </a:buClr>
              <a:buSzPct val="8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ame trend as for the size of parent atoms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buClr>
                <a:srgbClr val="990099"/>
              </a:buClr>
              <a:buSzPct val="8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1" lang="en-US" sz="2600" spc="-1" strike="noStrike" baseline="30000">
                <a:solidFill>
                  <a:srgbClr val="000099"/>
                </a:solidFill>
                <a:latin typeface="Comic Sans MS"/>
              </a:rPr>
              <a:t>-</a:t>
            </a: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 is larger than F</a:t>
            </a:r>
            <a:r>
              <a:rPr b="1" lang="en-US" sz="2600" spc="-1" strike="noStrike" baseline="30000">
                <a:solidFill>
                  <a:srgbClr val="000099"/>
                </a:solidFill>
                <a:latin typeface="Comic Sans MS"/>
              </a:rPr>
              <a:t>-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eriodic Properties – Ion Siz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Trends to know: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For an isoelectronic series of ions, the size decreases with increasing atomic number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buClr>
                <a:srgbClr val="008000"/>
              </a:buClr>
              <a:buSzPct val="8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Na</a:t>
            </a:r>
            <a:r>
              <a:rPr b="1" lang="en-US" sz="2600" spc="-1" strike="noStrike" baseline="30000">
                <a:solidFill>
                  <a:srgbClr val="000099"/>
                </a:solidFill>
                <a:latin typeface="Comic Sans MS"/>
              </a:rPr>
              <a:t>+ </a:t>
            </a: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is smaller than O</a:t>
            </a:r>
            <a:r>
              <a:rPr b="1" lang="en-US" sz="2600" spc="-1" strike="noStrike" baseline="30000">
                <a:solidFill>
                  <a:srgbClr val="000099"/>
                </a:solidFill>
                <a:latin typeface="Comic Sans MS"/>
              </a:rPr>
              <a:t>2-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Periodic Properties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Ionization Energy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 ease with which an electron can be removed from an atom to form an ion is an important indicator of its chemical behavior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Ionization energy: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the minimum energy required to remove an electron from the ground state of an isolated gaseous atom or ion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Comic Sans MS"/>
              </a:rPr>
              <a:t>Formation of cation (+) or more positively charged cation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Periodic Properties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Ionization Energy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onization of Gaseous Sodium: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Comic Sans MS"/>
              </a:rPr>
              <a:t>Na (g) </a:t>
            </a:r>
            <a:r>
              <a:rPr b="1" lang="en-US" sz="26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8000"/>
                </a:solidFill>
                <a:latin typeface="Comic Sans MS"/>
              </a:rPr>
              <a:t>  Na</a:t>
            </a:r>
            <a:r>
              <a:rPr b="1" lang="en-US" sz="2600" spc="-1" strike="noStrike" baseline="30000">
                <a:solidFill>
                  <a:srgbClr val="008000"/>
                </a:solidFill>
                <a:latin typeface="Comic Sans MS"/>
              </a:rPr>
              <a:t>+</a:t>
            </a:r>
            <a:r>
              <a:rPr b="1" lang="en-US" sz="2600" spc="-1" strike="noStrike">
                <a:solidFill>
                  <a:srgbClr val="008000"/>
                </a:solidFill>
                <a:latin typeface="Comic Sans MS"/>
              </a:rPr>
              <a:t> (g)  +  e</a:t>
            </a:r>
            <a:r>
              <a:rPr b="1" lang="en-US" sz="2600" spc="-1" strike="noStrike" baseline="30000">
                <a:solidFill>
                  <a:srgbClr val="008000"/>
                </a:solidFill>
                <a:latin typeface="Comic Sans MS"/>
              </a:rPr>
              <a:t>-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s the ionization energy increases, it becomes harder to remove an electron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rbital Diagram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Every noble gas has a complete outer shell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99"/>
                </a:solidFill>
                <a:latin typeface="Comic Sans MS"/>
              </a:rPr>
              <a:t>He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buClr>
                <a:srgbClr val="008000"/>
              </a:buClr>
              <a:buSzPct val="8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2 electrons in the outer shell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99"/>
                </a:solidFill>
                <a:latin typeface="Comic Sans MS"/>
              </a:rPr>
              <a:t>All other noble gase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buClr>
                <a:srgbClr val="008000"/>
              </a:buClr>
              <a:buSzPct val="8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n octet of electrons in the outer shell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This configuration is exceptionally stable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Responsible for the unreactive nature of the noble gases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Comic Sans MS"/>
              </a:rPr>
              <a:t>Elements that ionize easily do so in a way that gives them the same octet of electrons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Periodic Properties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Ionization Energy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rcRect l="0" t="0" r="0" b="3841"/>
          <a:stretch/>
        </p:blipFill>
        <p:spPr>
          <a:xfrm>
            <a:off x="5716440" y="2590920"/>
            <a:ext cx="3427560" cy="282240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5867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mic Sans MS"/>
              </a:rPr>
              <a:t>Within each row, the ionization energy increases from left to right</a:t>
            </a:r>
            <a:endParaRPr b="1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Its easiest to remove an electron from an alkali metal and hardest to remove one from a noble gas.</a:t>
            </a:r>
            <a:endParaRPr b="1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mic Sans MS"/>
              </a:rPr>
              <a:t>Within each group, the ionization energy generally decreases from top to bottom</a:t>
            </a:r>
            <a:endParaRPr b="1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It’s easier to ionize K than Li.</a:t>
            </a:r>
            <a:endParaRPr b="1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Periodic Properties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Ionization Energy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16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Example: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Which element has the higher ionization energy, Br or Ca?  Which one will lose an electron easier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Periodic Properties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Electron Affinity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The energy change that occurs when an electron is added to a gaseous atom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is called the </a:t>
            </a: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electron affinity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Comic Sans MS"/>
              </a:rPr>
              <a:t>Cl (g) + e</a:t>
            </a:r>
            <a:r>
              <a:rPr b="1" lang="en-US" sz="2600" spc="-1" strike="noStrike" baseline="30000">
                <a:solidFill>
                  <a:srgbClr val="008000"/>
                </a:solidFill>
                <a:latin typeface="Comic Sans MS"/>
              </a:rPr>
              <a:t>-</a:t>
            </a:r>
            <a:r>
              <a:rPr b="1" lang="en-US" sz="26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8000"/>
                </a:solidFill>
                <a:latin typeface="Comic Sans MS"/>
              </a:rPr>
              <a:t> Cl</a:t>
            </a:r>
            <a:r>
              <a:rPr b="1" lang="en-US" sz="2600" spc="-1" strike="noStrike" baseline="30000">
                <a:solidFill>
                  <a:srgbClr val="008000"/>
                </a:solidFill>
                <a:latin typeface="Comic Sans MS"/>
              </a:rPr>
              <a:t>-</a:t>
            </a:r>
            <a:r>
              <a:rPr b="1" lang="en-US" sz="2600" spc="-1" strike="noStrike">
                <a:solidFill>
                  <a:srgbClr val="008000"/>
                </a:solidFill>
                <a:latin typeface="Comic Sans MS"/>
              </a:rPr>
              <a:t> (g)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 electron affinity becomes increasingly negative as the attraction between an atom and an electron increases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more negative electron affinity = more likely to gain an electron and form an anion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Periodic Properties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Electron Affinity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Trends: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Halogens have the most negative electron affinities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Electron affinities become increasing negative moving from the left toward the halogens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Electron affinities do not change significantly within a group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Periodic Properties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Electron Affinity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Trends: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Noble gases will not accept another electron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buClr>
                <a:srgbClr val="008000"/>
              </a:buClr>
              <a:buSzPct val="8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o do so would require adding an electron to a new electron shell (significantly higher in energy)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Periodic Properties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Metallic Character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Metals: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shiny luster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malleable and ductile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good conductors of heat and electricity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form cations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Metallic character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increases from top to bottom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Increases from right to left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rbital Diagram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For Sodium (Na) 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11 electrons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053000" indent="-221400">
              <a:buClr>
                <a:srgbClr val="008000"/>
              </a:buClr>
              <a:buSzPct val="8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Comic Sans MS"/>
              </a:rPr>
              <a:t>1 more electron than the noble gas neon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666880" y="3657600"/>
            <a:ext cx="4876560" cy="1143000"/>
            <a:chOff x="2666880" y="3657600"/>
            <a:chExt cx="4876560" cy="1143000"/>
          </a:xfrm>
        </p:grpSpPr>
        <p:grpSp>
          <p:nvGrpSpPr>
            <p:cNvPr id="161" name=""/>
            <p:cNvGrpSpPr/>
            <p:nvPr/>
          </p:nvGrpSpPr>
          <p:grpSpPr>
            <a:xfrm>
              <a:off x="2666880" y="4267080"/>
              <a:ext cx="4876560" cy="533520"/>
              <a:chOff x="2666880" y="4267080"/>
              <a:chExt cx="4876560" cy="533520"/>
            </a:xfrm>
          </p:grpSpPr>
          <p:grpSp>
            <p:nvGrpSpPr>
              <p:cNvPr id="162" name=""/>
              <p:cNvGrpSpPr/>
              <p:nvPr/>
            </p:nvGrpSpPr>
            <p:grpSpPr>
              <a:xfrm>
                <a:off x="2666880" y="4267080"/>
                <a:ext cx="4876560" cy="533520"/>
                <a:chOff x="2666880" y="4267080"/>
                <a:chExt cx="4876560" cy="53352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666880" y="4267080"/>
                  <a:ext cx="609480" cy="533520"/>
                </a:xfrm>
                <a:prstGeom prst="rect">
                  <a:avLst/>
                </a:prstGeom>
                <a:noFill/>
                <a:ln cap="sq"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657240" y="4267080"/>
                  <a:ext cx="609840" cy="533520"/>
                </a:xfrm>
                <a:prstGeom prst="rect">
                  <a:avLst/>
                </a:prstGeom>
                <a:noFill/>
                <a:ln cap="sq"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571640" y="4267080"/>
                  <a:ext cx="609840" cy="533520"/>
                </a:xfrm>
                <a:prstGeom prst="rect">
                  <a:avLst/>
                </a:prstGeom>
                <a:noFill/>
                <a:ln cap="sq"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181480" y="4267080"/>
                  <a:ext cx="609480" cy="533520"/>
                </a:xfrm>
                <a:prstGeom prst="rect">
                  <a:avLst/>
                </a:prstGeom>
                <a:noFill/>
                <a:ln cap="sq"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790960" y="4267080"/>
                  <a:ext cx="609480" cy="533520"/>
                </a:xfrm>
                <a:prstGeom prst="rect">
                  <a:avLst/>
                </a:prstGeom>
                <a:noFill/>
                <a:ln cap="sq"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6933960" y="4267080"/>
                  <a:ext cx="609480" cy="533520"/>
                </a:xfrm>
                <a:prstGeom prst="rect">
                  <a:avLst/>
                </a:prstGeom>
                <a:noFill/>
                <a:ln cap="sq"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2819160" y="4343400"/>
                <a:ext cx="228600" cy="394920"/>
                <a:chOff x="2819160" y="4343400"/>
                <a:chExt cx="228600" cy="39492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3047760" y="4343400"/>
                  <a:ext cx="0" cy="380880"/>
                </a:xfrm>
                <a:prstGeom prst="line">
                  <a:avLst/>
                </a:prstGeom>
                <a:ln cap="sq" w="38160">
                  <a:solidFill>
                    <a:srgbClr val="ff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V="1">
                  <a:off x="2819160" y="4357080"/>
                  <a:ext cx="0" cy="381240"/>
                </a:xfrm>
                <a:prstGeom prst="line">
                  <a:avLst/>
                </a:prstGeom>
                <a:ln cap="sq" w="38160">
                  <a:solidFill>
                    <a:srgbClr val="ff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3809880" y="4343400"/>
                <a:ext cx="228600" cy="394920"/>
                <a:chOff x="3809880" y="4343400"/>
                <a:chExt cx="228600" cy="39492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4038480" y="4343400"/>
                  <a:ext cx="0" cy="380880"/>
                </a:xfrm>
                <a:prstGeom prst="line">
                  <a:avLst/>
                </a:prstGeom>
                <a:ln cap="sq" w="38160">
                  <a:solidFill>
                    <a:srgbClr val="ff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flipV="1">
                  <a:off x="3809880" y="4357080"/>
                  <a:ext cx="0" cy="381240"/>
                </a:xfrm>
                <a:prstGeom prst="line">
                  <a:avLst/>
                </a:prstGeom>
                <a:ln cap="sq" w="38160">
                  <a:solidFill>
                    <a:srgbClr val="ff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4724280" y="4343400"/>
                <a:ext cx="228600" cy="394920"/>
                <a:chOff x="4724280" y="4343400"/>
                <a:chExt cx="228600" cy="3949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4952880" y="4343400"/>
                  <a:ext cx="0" cy="380880"/>
                </a:xfrm>
                <a:prstGeom prst="line">
                  <a:avLst/>
                </a:prstGeom>
                <a:ln cap="sq" w="38160">
                  <a:solidFill>
                    <a:srgbClr val="ff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V="1">
                  <a:off x="4724280" y="4357080"/>
                  <a:ext cx="0" cy="381240"/>
                </a:xfrm>
                <a:prstGeom prst="line">
                  <a:avLst/>
                </a:prstGeom>
                <a:ln cap="sq" w="38160">
                  <a:solidFill>
                    <a:srgbClr val="ff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5333760" y="4343400"/>
                <a:ext cx="228600" cy="394920"/>
                <a:chOff x="5333760" y="4343400"/>
                <a:chExt cx="228600" cy="39492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5562360" y="4343400"/>
                  <a:ext cx="0" cy="380880"/>
                </a:xfrm>
                <a:prstGeom prst="line">
                  <a:avLst/>
                </a:prstGeom>
                <a:ln cap="sq" w="38160">
                  <a:solidFill>
                    <a:srgbClr val="ff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V="1">
                  <a:off x="5333760" y="4357080"/>
                  <a:ext cx="0" cy="381240"/>
                </a:xfrm>
                <a:prstGeom prst="line">
                  <a:avLst/>
                </a:prstGeom>
                <a:ln cap="sq" w="38160">
                  <a:solidFill>
                    <a:srgbClr val="ff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5943240" y="4343400"/>
                <a:ext cx="228600" cy="394920"/>
                <a:chOff x="5943240" y="4343400"/>
                <a:chExt cx="228600" cy="39492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6171840" y="4343400"/>
                  <a:ext cx="0" cy="380880"/>
                </a:xfrm>
                <a:prstGeom prst="line">
                  <a:avLst/>
                </a:prstGeom>
                <a:ln cap="sq" w="38160">
                  <a:solidFill>
                    <a:srgbClr val="ff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V="1">
                  <a:off x="5943240" y="4357080"/>
                  <a:ext cx="0" cy="381240"/>
                </a:xfrm>
                <a:prstGeom prst="line">
                  <a:avLst/>
                </a:prstGeom>
                <a:ln cap="sq" w="38160">
                  <a:solidFill>
                    <a:srgbClr val="ff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 flipV="1">
                <a:off x="7086240" y="4343400"/>
                <a:ext cx="0" cy="38088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2742840" y="3657600"/>
              <a:ext cx="4800600" cy="459720"/>
              <a:chOff x="2742840" y="3657600"/>
              <a:chExt cx="4800600" cy="459720"/>
            </a:xfrm>
          </p:grpSpPr>
          <p:sp>
            <p:nvSpPr>
              <p:cNvPr id="186" name=""/>
              <p:cNvSpPr/>
              <p:nvPr/>
            </p:nvSpPr>
            <p:spPr>
              <a:xfrm>
                <a:off x="2742840" y="36576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657240" y="36576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105160" y="36576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009920" y="36576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0" name=""/>
          <p:cNvSpPr/>
          <p:nvPr/>
        </p:nvSpPr>
        <p:spPr>
          <a:xfrm flipV="1">
            <a:off x="7086600" y="4343400"/>
            <a:ext cx="0" cy="38088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4381560" y="3238560"/>
            <a:ext cx="380880" cy="3962160"/>
          </a:xfrm>
          <a:custGeom>
            <a:avLst/>
            <a:gdLst>
              <a:gd name="textAreaLeft" fmla="*/ 0 w 380880"/>
              <a:gd name="textAreaRight" fmla="*/ 137520 w 380880"/>
              <a:gd name="textAreaTop" fmla="*/ 103320 h 3962160"/>
              <a:gd name="textAreaBottom" fmla="*/ 3858840 h 39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86200" y="57150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Neon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rbital Diagram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914400" y="152388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66560" indent="-466560">
              <a:lnSpc>
                <a:spcPct val="100000"/>
              </a:lnSpc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Electrons that are in shells that are not occupied by the nearest noble gas element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are called </a:t>
            </a: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valence electrons</a:t>
            </a:r>
            <a:r>
              <a:rPr b="1" i="1" lang="en-US" sz="26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33360">
              <a:lnSpc>
                <a:spcPct val="100000"/>
              </a:lnSpc>
              <a:buClr>
                <a:srgbClr val="008000"/>
              </a:buClr>
              <a:buSzPct val="8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Comic Sans MS"/>
              </a:rPr>
              <a:t>For Na, the 3s electrons are valence electr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buClr>
                <a:srgbClr val="ffff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Valence electron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33360">
              <a:lnSpc>
                <a:spcPct val="100000"/>
              </a:lnSpc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Used to form chemical bon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33360">
              <a:lnSpc>
                <a:spcPct val="100000"/>
              </a:lnSpc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The ones lost to form c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rbital Diagram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Example: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Draw the orbital diagram for potassium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Know: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Z = atomic number =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rbital Diagram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Example: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Draw the orbital diagram for Ti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rbital Diagram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600" spc="-1" strike="noStrike" u="sng">
                <a:solidFill>
                  <a:srgbClr val="000099"/>
                </a:solidFill>
                <a:uFillTx/>
                <a:latin typeface="Comic Sans MS"/>
              </a:rPr>
              <a:t>useful periodic trend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For atoms in the </a:t>
            </a: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t period, the electrons are being added to the </a:t>
            </a: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n=1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shell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For atoms in the </a:t>
            </a: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nd period, the last electrons are being added to the </a:t>
            </a: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n=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shell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tc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16:06:00Z</dcterms:created>
  <dc:creator>Preferred Customer</dc:creator>
  <dc:description/>
  <dc:language>en-US</dc:language>
  <cp:lastModifiedBy>kmbailey</cp:lastModifiedBy>
  <cp:lastPrinted>1995-12-08T18:33:06Z</cp:lastPrinted>
  <dcterms:modified xsi:type="dcterms:W3CDTF">2009-04-17T19:23:57Z</dcterms:modified>
  <cp:revision>38</cp:revision>
  <dc:subject/>
  <dc:title>[Site Name]</dc:title>
</cp:coreProperties>
</file>